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 u="sng">
                <a:solidFill>
                  <a:srgbClr val="000000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 u="sng">
                <a:solidFill>
                  <a:srgbClr val="000000"/>
                </a:solidFill>
                <a:uFillTx/>
                <a:latin typeface="Tahoma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 u="sng">
                <a:solidFill>
                  <a:srgbClr val="000000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9F9B-6494-44B3-8041-1521EA8C1503}" type="slidenum">
              <a:rPr b="0" lang="fi-FI" sz="1200" spc="-1" strike="noStrike" u="sng">
                <a:solidFill>
                  <a:srgbClr val="000000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2448-A596-43BB-8D25-40F18F2FF8DC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8388-A56A-4384-A9E7-0692138BD6FD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4E07-D88C-4946-801B-0CBEDF167F31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60A-F711-4FE6-A060-10E5A9DDAFC4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5DBC-1DA1-4256-ABA6-661CB5887D8E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EBAB-698D-4DF0-9E45-362CA2660E7F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FEB-1495-487A-80DA-AC14AE1E6023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2991-D63D-4136-8971-8803E977AF6C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91FA-EA4D-4D33-A5E7-34C91C6BCE71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D914-DA07-4BF5-ADA5-04288141C06F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6E6-8AD7-4C78-9482-F2C45113A42B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048B-BBBF-4741-A3A1-AF885C517B14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7B24-B802-4D43-86FE-EC7D67E7FFCA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242D-6D55-42F4-9145-6A84397C4AF7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4578-77D6-4A95-935B-29F0E1FE4EE0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31D9-B528-4658-A41F-6CDC1377589C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FE1-B1AA-4684-972F-AF6EAD6D8E2C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FF9E-105B-452A-A32E-22BBF893B2C7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22F5-921D-43E5-80FB-03B277D4C28D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9B30-EBF3-429C-A2B8-DAB57CCC4A2B}" type="slidenum">
              <a:rPr b="0" lang="fi-FI" sz="1200" spc="-1" strike="noStrike" u="sng">
                <a:solidFill>
                  <a:srgbClr val="ffffff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78F-456E-4360-A280-522274FD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18C-ACE6-491A-BF46-485B00D7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025-166F-4ADA-B5EB-D9C812AE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089-D220-47C3-92E0-1396E91E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3073-CB69-4240-9877-93AE66B8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6AB-7CFE-40AE-8D9C-70A41617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0864-7184-4DDE-974F-116287B8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B0D7-83F1-4892-A90A-3B22EF30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92E5-61BE-47AF-94DA-B6526D59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DFA9-F8AE-41EC-BC12-88CB32DA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2951-1494-4713-AB8A-16E4888D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E32-C460-4085-BF6F-C74AD0AC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44A0-1DBF-4DE6-8879-3DA85A7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48DE-1A00-4C2F-80C5-6A1599C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EB3A-04DA-468F-A8AB-18BC9788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DE9-201C-422E-ABB8-D09F142D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7B17-0C8E-471C-8A8F-CCF94A2C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50BC-C788-418C-A057-5455D2EB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31DE-C2CA-4928-8845-21764A69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5E91-EE9C-4592-A67C-BC48100E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E21F-A8C3-434B-9206-55125B2B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2F71-A067-45A6-91EE-AD4E4AD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8EB-E3E7-4AF2-967A-1AC1121C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6AAB-F166-4E40-B0FF-F41B4F62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8C2B-E5F1-4A87-B521-1FE86CFD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765A-621D-43B5-8333-5C8873F9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FAAE-3283-4FC6-9ADC-A26FA8A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23BE-12C0-4BF8-9A4E-AE826B41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BC6D-04D6-40B8-9F88-0427350F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C573-5DC3-40B2-A188-E7AC9CC6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6860-A1AF-4D45-8737-3681CC1E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F7AD-349F-4540-A834-5D6A6F91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E03C-8C1C-461E-A464-9DA05A05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068-0BAB-4412-B1FE-866CE42F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1ECB-A384-431A-98F8-5C237006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62C5C-9099-47D2-AD26-FCCD4DB7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DB5E-396B-4049-B40F-F1BC4169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4E20-6940-4B40-89D4-8F15945B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12A5-7900-4C2E-9C2A-C08A88AF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5A33-882B-4A73-BFBC-4BB5A722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79223-D174-4F5D-AE43-C55364DA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113E-6A86-49F1-B28A-E6B4019C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86F2-12C4-4283-B3E9-EC366810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4F2EE-002F-44DF-AE2F-7E868652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EAF-76B4-4811-90F9-BCAC6BE2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84B2C-74DA-49AA-A2DC-D52E0ECC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FF24C-C0CD-4674-B740-57200B7F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33EF-0A41-4FD7-9599-E6676243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1CBB-BFAA-4847-B821-F7F206D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AB05-365C-42A3-BD75-9309D40A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F98EB-345E-4175-8D80-28A66BDA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F1EF-731E-4CEF-B413-2CD73E7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2D24-BD1F-4C90-841E-6C12C95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92BA3-A8F3-4825-AD23-9E0377A3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434DB-D67C-45FC-9F83-57015F72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D90-0A35-411D-A2AB-F936D437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EAA08-BE0C-4D62-8D17-E33D2C9B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0A6-B582-47BA-AB11-F27EA16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120-2633-47D0-987A-1ED05805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52B-45A2-44CB-889F-F9BD068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E027-8269-4F98-B995-79A301A741AC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BB5E-5130-47B6-B0D8-104F998D44A7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A2CB-7D2A-4123-8127-5AE0F3833C97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6386-9916-4D69-95FE-28F9CAE71CA0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 u="sng">
                <a:solidFill>
                  <a:srgbClr val="bcbcbc"/>
                </a:solidFill>
                <a:uFillTx/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D421-181E-48EF-AE9B-06AADB13287D}" type="slidenum">
              <a:rPr b="0" lang="en-US" sz="1200" spc="-1" strike="noStrike" u="sng">
                <a:solidFill>
                  <a:srgbClr val="bcbcbc"/>
                </a:solidFill>
                <a:uFillTx/>
                <a:latin typeface="Tahom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peus = matka: aik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 = s :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im.:  Auto kulkee 300km  6 tunnissa.  Mikä on auton nopeu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4" name="Picture 6" descr="j0212957"/>
          <p:cNvPicPr/>
          <p:nvPr/>
        </p:nvPicPr>
        <p:blipFill>
          <a:blip r:embed="rId2"/>
          <a:stretch/>
        </p:blipFill>
        <p:spPr>
          <a:xfrm>
            <a:off x="6400800" y="4800600"/>
            <a:ext cx="2743200" cy="17226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97"/>
          <p:cNvGrpSpPr/>
          <p:nvPr/>
        </p:nvGrpSpPr>
        <p:grpSpPr>
          <a:xfrm>
            <a:off x="5943600" y="228600"/>
            <a:ext cx="2895480" cy="2438280"/>
            <a:chOff x="5943600" y="228600"/>
            <a:chExt cx="2895480" cy="2438280"/>
          </a:xfrm>
        </p:grpSpPr>
        <p:sp>
          <p:nvSpPr>
            <p:cNvPr id="216" name="AutoShape 98"/>
            <p:cNvSpPr/>
            <p:nvPr/>
          </p:nvSpPr>
          <p:spPr>
            <a:xfrm>
              <a:off x="5943600" y="2286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7" name="Text Box 99"/>
            <p:cNvSpPr/>
            <p:nvPr/>
          </p:nvSpPr>
          <p:spPr>
            <a:xfrm>
              <a:off x="7162560" y="68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s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8" name="Text Box 100"/>
            <p:cNvSpPr/>
            <p:nvPr/>
          </p:nvSpPr>
          <p:spPr>
            <a:xfrm>
              <a:off x="7848360" y="20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Arial"/>
                  <a:ea typeface="Arial"/>
                </a:rPr>
                <a:t>t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9" name="Text Box 101"/>
            <p:cNvSpPr/>
            <p:nvPr/>
          </p:nvSpPr>
          <p:spPr>
            <a:xfrm>
              <a:off x="6400800" y="20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0" name="Line 102"/>
            <p:cNvSpPr/>
            <p:nvPr/>
          </p:nvSpPr>
          <p:spPr>
            <a:xfrm>
              <a:off x="6705360" y="16002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sp>
        <p:nvSpPr>
          <p:cNvPr id="221" name="Tekstikehys 10"/>
          <p:cNvSpPr/>
          <p:nvPr/>
        </p:nvSpPr>
        <p:spPr>
          <a:xfrm>
            <a:off x="2369160" y="58672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37 0.00857 C -0.61128 0.06829 -0.95903 0.12824 -1.09201 0.15139 C -1.225 0.17454 -1.06927 0.14861 -1.06094 0.14815 C -1.05295 0.14769 -1.04618 0.14815 -1.04201 0.14815 E">
                                      <p:cBhvr>
                                        <p:cTn id="30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Jos aika-matka-koordinatistoon piirretty kuvaaja kaartuu , on kyseessä kiihtyvä liik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graphpaper2"/>
          <p:cNvPicPr/>
          <p:nvPr/>
        </p:nvPicPr>
        <p:blipFill>
          <a:blip r:embed="rId1"/>
          <a:stretch/>
        </p:blipFill>
        <p:spPr>
          <a:xfrm>
            <a:off x="2743200" y="0"/>
            <a:ext cx="5927760" cy="59436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258" name="Arc 18"/>
          <p:cNvSpPr/>
          <p:nvPr/>
        </p:nvSpPr>
        <p:spPr>
          <a:xfrm flipV="1">
            <a:off x="2743200" y="837720"/>
            <a:ext cx="1371600" cy="50292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9" name="Tekstikehys 13"/>
          <p:cNvSpPr/>
          <p:nvPr/>
        </p:nvSpPr>
        <p:spPr>
          <a:xfrm>
            <a:off x="7101360" y="60199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Tahoma"/>
              </a:rPr>
              <a:t>Aika (s)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0" name="Tekstikehys 14"/>
          <p:cNvSpPr/>
          <p:nvPr/>
        </p:nvSpPr>
        <p:spPr>
          <a:xfrm>
            <a:off x="2133720" y="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Tahoma"/>
              </a:rPr>
              <a:t>Matka (m)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1" name="Ellipsi 15"/>
          <p:cNvSpPr/>
          <p:nvPr/>
        </p:nvSpPr>
        <p:spPr>
          <a:xfrm>
            <a:off x="4038480" y="1219320"/>
            <a:ext cx="15264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2" name="Ellipsi 16"/>
          <p:cNvSpPr/>
          <p:nvPr/>
        </p:nvSpPr>
        <p:spPr>
          <a:xfrm>
            <a:off x="3886200" y="320040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3" name="Ellipsi 17"/>
          <p:cNvSpPr/>
          <p:nvPr/>
        </p:nvSpPr>
        <p:spPr>
          <a:xfrm>
            <a:off x="3581280" y="4495680"/>
            <a:ext cx="15264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4" name="Ellipsi 18"/>
          <p:cNvSpPr/>
          <p:nvPr/>
        </p:nvSpPr>
        <p:spPr>
          <a:xfrm>
            <a:off x="3200400" y="53341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65" name="Ellipsi 19"/>
          <p:cNvSpPr/>
          <p:nvPr/>
        </p:nvSpPr>
        <p:spPr>
          <a:xfrm>
            <a:off x="2743200" y="57913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uvaile oheista liikettä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68" name="Picture 4" descr="CH11_06c"/>
          <p:cNvPicPr/>
          <p:nvPr/>
        </p:nvPicPr>
        <p:blipFill>
          <a:blip r:embed="rId2"/>
          <a:srcRect l="13164" t="17301" r="2631" b="15143"/>
          <a:stretch/>
        </p:blipFill>
        <p:spPr>
          <a:xfrm>
            <a:off x="3886200" y="30481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365040" y="3460680"/>
            <a:ext cx="2835360" cy="33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Välillä 0-8 s, tasainen nopeus: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(v =25 m/s);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Välillä 8-12 s, ei liikettä;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Välillä 12-16 s, kiihtyvä liike;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Välillä 16-20 s, tasainen nopeus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0" name="Tekstikehys 6"/>
          <p:cNvSpPr/>
          <p:nvPr/>
        </p:nvSpPr>
        <p:spPr>
          <a:xfrm>
            <a:off x="4182840" y="2971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Matka 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1" name="Tekstikehys 7"/>
          <p:cNvSpPr/>
          <p:nvPr/>
        </p:nvSpPr>
        <p:spPr>
          <a:xfrm>
            <a:off x="7929000" y="594360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Aika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constant speed graph dvst"/>
          <p:cNvPicPr/>
          <p:nvPr/>
        </p:nvPicPr>
        <p:blipFill>
          <a:blip r:embed="rId2"/>
          <a:srcRect l="8236" t="6352" r="1805" b="13340"/>
          <a:stretch/>
        </p:blipFill>
        <p:spPr>
          <a:xfrm>
            <a:off x="2590920" y="2666880"/>
            <a:ext cx="4267080" cy="2590920"/>
          </a:xfrm>
          <a:prstGeom prst="rect">
            <a:avLst/>
          </a:prstGeom>
          <a:ln w="0">
            <a:noFill/>
          </a:ln>
        </p:spPr>
      </p:pic>
      <p:sp>
        <p:nvSpPr>
          <p:cNvPr id="274" name="Tekstikehys 3"/>
          <p:cNvSpPr/>
          <p:nvPr/>
        </p:nvSpPr>
        <p:spPr>
          <a:xfrm>
            <a:off x="6944400" y="472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Aika 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5" name="Tekstikehys 5"/>
          <p:cNvSpPr/>
          <p:nvPr/>
        </p:nvSpPr>
        <p:spPr>
          <a:xfrm>
            <a:off x="2658600" y="22096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Matka 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accelgraph"/>
          <p:cNvPicPr/>
          <p:nvPr/>
        </p:nvPicPr>
        <p:blipFill>
          <a:blip r:embed="rId1"/>
          <a:srcRect l="7502" t="13692" r="3751" b="13244"/>
          <a:stretch/>
        </p:blipFill>
        <p:spPr>
          <a:xfrm>
            <a:off x="2590920" y="2438280"/>
            <a:ext cx="5410080" cy="3276720"/>
          </a:xfrm>
          <a:prstGeom prst="rect">
            <a:avLst/>
          </a:prstGeom>
          <a:ln w="0">
            <a:noFill/>
          </a:ln>
        </p:spPr>
      </p:pic>
      <p:sp>
        <p:nvSpPr>
          <p:cNvPr id="277" name="Tekstikehys 3"/>
          <p:cNvSpPr/>
          <p:nvPr/>
        </p:nvSpPr>
        <p:spPr>
          <a:xfrm>
            <a:off x="2362320" y="1905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atka  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8" name="Tekstikehys 4"/>
          <p:cNvSpPr/>
          <p:nvPr/>
        </p:nvSpPr>
        <p:spPr>
          <a:xfrm>
            <a:off x="8011440" y="51814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Aika 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9" name="Tekstikehys 6"/>
          <p:cNvSpPr/>
          <p:nvPr/>
        </p:nvSpPr>
        <p:spPr>
          <a:xfrm>
            <a:off x="647640" y="533520"/>
            <a:ext cx="72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ahoma"/>
              </a:rPr>
              <a:t>Kiihtyvä liike aika-matka-koordinaatistossa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decelgraph"/>
          <p:cNvPicPr/>
          <p:nvPr/>
        </p:nvPicPr>
        <p:blipFill>
          <a:blip r:embed="rId1"/>
          <a:srcRect l="4449" t="6112" r="1115" b="5346"/>
          <a:stretch/>
        </p:blipFill>
        <p:spPr>
          <a:xfrm>
            <a:off x="1600200" y="182880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281" name="Tekstikehys 4"/>
          <p:cNvSpPr/>
          <p:nvPr/>
        </p:nvSpPr>
        <p:spPr>
          <a:xfrm>
            <a:off x="624240" y="609480"/>
            <a:ext cx="76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ahoma"/>
              </a:rPr>
              <a:t>Hidastuva liike aika-matka-koordinaatistossa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2" name="Tekstikehys 5"/>
          <p:cNvSpPr/>
          <p:nvPr/>
        </p:nvSpPr>
        <p:spPr>
          <a:xfrm>
            <a:off x="1363320" y="13716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Matka 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83" name="Tekstikehys 6"/>
          <p:cNvSpPr/>
          <p:nvPr/>
        </p:nvSpPr>
        <p:spPr>
          <a:xfrm>
            <a:off x="7858800" y="6095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Aika 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saine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peuden kuvaaja on  vaakasuora aika- nopeus-koordinaatistossa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dastuvan  kuvaaja on laskeva suor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iihtyvän liikkeen kuvaaja on nouseva suor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Tekstikehys 4"/>
          <p:cNvSpPr/>
          <p:nvPr/>
        </p:nvSpPr>
        <p:spPr>
          <a:xfrm>
            <a:off x="-269280" y="533520"/>
            <a:ext cx="92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ahoma"/>
              </a:rPr>
              <a:t>Liikkeen kuvaaja aika-nopeus-koordinaatistossa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spvstimeofacceleration"/>
          <p:cNvPicPr/>
          <p:nvPr/>
        </p:nvPicPr>
        <p:blipFill>
          <a:blip r:embed="rId2"/>
          <a:srcRect l="17162" t="11782" r="0" b="12451"/>
          <a:stretch/>
        </p:blipFill>
        <p:spPr>
          <a:xfrm>
            <a:off x="685800" y="1752480"/>
            <a:ext cx="317196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spdvstimedeceleration"/>
          <p:cNvPicPr/>
          <p:nvPr/>
        </p:nvPicPr>
        <p:blipFill>
          <a:blip r:embed="rId3"/>
          <a:srcRect l="9973" t="11782" r="0" b="10772"/>
          <a:stretch/>
        </p:blipFill>
        <p:spPr>
          <a:xfrm>
            <a:off x="5029200" y="1981080"/>
            <a:ext cx="3438360" cy="3505320"/>
          </a:xfrm>
          <a:prstGeom prst="rect">
            <a:avLst/>
          </a:prstGeom>
          <a:ln w="0">
            <a:noFill/>
          </a:ln>
        </p:spPr>
      </p:pic>
      <p:sp>
        <p:nvSpPr>
          <p:cNvPr id="289" name="Tekstikehys 5"/>
          <p:cNvSpPr/>
          <p:nvPr/>
        </p:nvSpPr>
        <p:spPr>
          <a:xfrm>
            <a:off x="889200" y="175248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ahoma"/>
              </a:rPr>
              <a:t>Nopeus(m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0" name="Tekstikehys 7"/>
          <p:cNvSpPr/>
          <p:nvPr/>
        </p:nvSpPr>
        <p:spPr>
          <a:xfrm>
            <a:off x="5080320" y="19810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ahoma"/>
              </a:rPr>
              <a:t>Nopeus(m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1" name="Tekstikehys 8"/>
          <p:cNvSpPr/>
          <p:nvPr/>
        </p:nvSpPr>
        <p:spPr>
          <a:xfrm>
            <a:off x="3052440" y="4876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Aika(s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2" name="Tekstikehys 9"/>
          <p:cNvSpPr/>
          <p:nvPr/>
        </p:nvSpPr>
        <p:spPr>
          <a:xfrm>
            <a:off x="7700400" y="525780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0000"/>
                </a:solidFill>
                <a:uFillTx/>
                <a:latin typeface="Tahoma"/>
              </a:rPr>
              <a:t>Aika(s</a:t>
            </a: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3" name="Tekstikehys 10"/>
          <p:cNvSpPr/>
          <p:nvPr/>
        </p:nvSpPr>
        <p:spPr>
          <a:xfrm>
            <a:off x="439920" y="571500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Kiihtyvä liike, 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nopeus kasvaa tasaisesti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94" name="Tekstikehys 11"/>
          <p:cNvSpPr/>
          <p:nvPr/>
        </p:nvSpPr>
        <p:spPr>
          <a:xfrm>
            <a:off x="5290200" y="5791320"/>
            <a:ext cx="39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Alussa tasainen nopeus, 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lopussa hidastuva nopeus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iihtyvyys 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opeuden muuto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ik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peuden muutos  ∆v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ika  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=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∆v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äkiauton nopeus huipilla  10m/s.  Kahden sekunnin kuluttua se on mäen alaosassa ja sen nopeus on 26m/s.  Laske mäkiauton kiihtyvyy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5448240" y="3076560"/>
            <a:ext cx="26672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nopeus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matk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ik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v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300km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6 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v = 50km/h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38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kiihtyvyys = nopeuden muutos:aika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26m/s – 10m/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2 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 =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16m/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2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 = 8m/s/s  =  8m/s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Kuinka pitkän matkan lentokone kulkee,  jos se lentää  nopeudella 800km/h  9  tuntia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.  Kuinka kauan laivalta kestää kulkea   500 km  matka, jos sen  nopeus on  50km/h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5" name="Picture 4" descr="ybxdbars[1]"/>
          <p:cNvPicPr/>
          <p:nvPr/>
        </p:nvPicPr>
        <p:blipFill>
          <a:blip r:embed="rId2"/>
          <a:stretch/>
        </p:blipFill>
        <p:spPr>
          <a:xfrm>
            <a:off x="5486400" y="2514600"/>
            <a:ext cx="1676520" cy="1104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3sh0tien[1]"/>
          <p:cNvPicPr/>
          <p:nvPr/>
        </p:nvPicPr>
        <p:blipFill>
          <a:blip r:embed="rId3"/>
          <a:stretch/>
        </p:blipFill>
        <p:spPr>
          <a:xfrm>
            <a:off x="6238800" y="4781520"/>
            <a:ext cx="85716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175 L -0.775 0.16389 E">
                                      <p:cBhvr>
                                        <p:cTn id="9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375 0.02223 E">
                                      <p:cBhvr>
                                        <p:cTn id="106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1) s= v t  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=800 km/h </a:t>
            </a:r>
            <a:r>
              <a:rPr b="0" lang="en-US" sz="4000" spc="-1" strike="noStrike" baseline="40000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9h  =  7200km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647720" indent="-7426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5000"/>
              <a:buFont typeface="Book Antiqu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 =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s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 =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500km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50km/h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 = 10 h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647720" indent="-7426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iirrä vihkoosi seuraavan liikkeen kuvaaja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(s)               s (m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7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14   10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21     15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2286000" y="2057400"/>
            <a:ext cx="4608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2" name="Tekstikehys 4"/>
          <p:cNvSpPr/>
          <p:nvPr/>
        </p:nvSpPr>
        <p:spPr>
          <a:xfrm>
            <a:off x="1085040" y="5257800"/>
            <a:ext cx="71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Vaaka-akselille tulee aika ja pystyakselille matka </a:t>
            </a:r>
            <a:r>
              <a:rPr b="0" lang="fi-FI" sz="2400" spc="-1" strike="noStrike" u="sng">
                <a:solidFill>
                  <a:srgbClr val="ffffff"/>
                </a:solidFill>
                <a:uFillTx/>
                <a:latin typeface="Tahoma"/>
              </a:rPr>
              <a:t>!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graphpaper2"/>
          <p:cNvPicPr/>
          <p:nvPr/>
        </p:nvPicPr>
        <p:blipFill>
          <a:blip r:embed="rId1"/>
          <a:stretch/>
        </p:blipFill>
        <p:spPr>
          <a:xfrm>
            <a:off x="2895480" y="0"/>
            <a:ext cx="5927760" cy="5943600"/>
          </a:xfrm>
          <a:prstGeom prst="rect">
            <a:avLst/>
          </a:prstGeom>
          <a:ln w="0">
            <a:noFill/>
          </a:ln>
        </p:spPr>
      </p:pic>
      <p:sp>
        <p:nvSpPr>
          <p:cNvPr id="234" name="Line 14"/>
          <p:cNvSpPr/>
          <p:nvPr/>
        </p:nvSpPr>
        <p:spPr>
          <a:xfrm flipV="1">
            <a:off x="2895480" y="3504960"/>
            <a:ext cx="3429000" cy="23619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5" name="Ellipsi 10"/>
          <p:cNvSpPr/>
          <p:nvPr/>
        </p:nvSpPr>
        <p:spPr>
          <a:xfrm>
            <a:off x="2819520" y="57913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6" name="Ellipsi 11"/>
          <p:cNvSpPr/>
          <p:nvPr/>
        </p:nvSpPr>
        <p:spPr>
          <a:xfrm>
            <a:off x="3886200" y="495288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7" name="Ellipsi 22"/>
          <p:cNvSpPr/>
          <p:nvPr/>
        </p:nvSpPr>
        <p:spPr>
          <a:xfrm>
            <a:off x="4952880" y="4267080"/>
            <a:ext cx="15264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8" name="Suora yhdysviiva 24"/>
          <p:cNvSpPr/>
          <p:nvPr/>
        </p:nvSpPr>
        <p:spPr>
          <a:xfrm flipH="1">
            <a:off x="3962520" y="571500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39" name="Suora yhdysviiva 27"/>
          <p:cNvSpPr/>
          <p:nvPr/>
        </p:nvSpPr>
        <p:spPr>
          <a:xfrm flipH="1">
            <a:off x="5029200" y="5715000"/>
            <a:ext cx="14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0" name="Suora yhdysviiva 28"/>
          <p:cNvSpPr/>
          <p:nvPr/>
        </p:nvSpPr>
        <p:spPr>
          <a:xfrm flipH="1">
            <a:off x="6095520" y="5715000"/>
            <a:ext cx="18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1" name="Ellipsi 30"/>
          <p:cNvSpPr/>
          <p:nvPr/>
        </p:nvSpPr>
        <p:spPr>
          <a:xfrm>
            <a:off x="6019920" y="35053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2" name="Tekstikehys 31"/>
          <p:cNvSpPr/>
          <p:nvPr/>
        </p:nvSpPr>
        <p:spPr>
          <a:xfrm>
            <a:off x="3733560" y="60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3" name="Tekstikehys 33"/>
          <p:cNvSpPr/>
          <p:nvPr/>
        </p:nvSpPr>
        <p:spPr>
          <a:xfrm>
            <a:off x="4798440" y="6095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4" name="Tekstikehys 34"/>
          <p:cNvSpPr/>
          <p:nvPr/>
        </p:nvSpPr>
        <p:spPr>
          <a:xfrm>
            <a:off x="5941440" y="6095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21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5" name="Suora yhdysviiva 37"/>
          <p:cNvSpPr/>
          <p:nvPr/>
        </p:nvSpPr>
        <p:spPr>
          <a:xfrm flipH="1" flipV="1">
            <a:off x="2819520" y="51055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6" name="Suora yhdysviiva 40"/>
          <p:cNvSpPr/>
          <p:nvPr/>
        </p:nvSpPr>
        <p:spPr>
          <a:xfrm flipH="1" flipV="1">
            <a:off x="2819520" y="4419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7" name="Suora yhdysviiva 41"/>
          <p:cNvSpPr/>
          <p:nvPr/>
        </p:nvSpPr>
        <p:spPr>
          <a:xfrm flipH="1" flipV="1">
            <a:off x="2743200" y="365760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8" name="Tekstikehys 43"/>
          <p:cNvSpPr/>
          <p:nvPr/>
        </p:nvSpPr>
        <p:spPr>
          <a:xfrm>
            <a:off x="2361960" y="487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49" name="Tekstikehys 44"/>
          <p:cNvSpPr/>
          <p:nvPr/>
        </p:nvSpPr>
        <p:spPr>
          <a:xfrm>
            <a:off x="2131560" y="4267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0" name="Tekstikehys 45"/>
          <p:cNvSpPr/>
          <p:nvPr/>
        </p:nvSpPr>
        <p:spPr>
          <a:xfrm>
            <a:off x="213156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1" name="Tekstikehys 46"/>
          <p:cNvSpPr/>
          <p:nvPr/>
        </p:nvSpPr>
        <p:spPr>
          <a:xfrm>
            <a:off x="7787160" y="6095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Tahoma"/>
              </a:rPr>
              <a:t>Aika (s)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2" name="Tekstikehys 48"/>
          <p:cNvSpPr/>
          <p:nvPr/>
        </p:nvSpPr>
        <p:spPr>
          <a:xfrm>
            <a:off x="2197800" y="457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ahoma"/>
              </a:rPr>
              <a:t>Matka (m)</a:t>
            </a:r>
            <a:endParaRPr b="0" lang="en-US" sz="2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Jos aika-matka- koordinaatistoon piirretty kuvaaja on suora, on kyseessä tasainen nopeus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asaisen liikkeen nopeus ei muutu, sen kiihtyvyys on nolla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t (s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     s (m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2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   20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125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6:37:27Z</dcterms:created>
  <dc:creator>Student</dc:creator>
  <dc:description/>
  <dc:language>en-US</dc:language>
  <cp:lastModifiedBy>Ritva Tamminen</cp:lastModifiedBy>
  <dcterms:modified xsi:type="dcterms:W3CDTF">2009-09-14T16:11:21Z</dcterms:modified>
  <cp:revision>48</cp:revision>
  <dc:subject/>
  <dc:title>Motion</dc:title>
</cp:coreProperties>
</file>